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60682-9A15-48E6-94DA-31FF7B14C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6F28-C07A-428C-A380-BD70735A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B2F4-9834-43C1-856C-34DF58C7F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16900-D8D5-44D3-8EF2-FD9EE611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0C3B-2609-485E-818A-883725BD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7238-2CC8-4CF4-B696-132FB415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EA39D-578C-4F2E-B610-318CFD54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C4D4D-3FE7-4550-9275-AE9153CC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4CB9-D0CD-4B0B-9ED8-A2297D1D3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EE3B-0AAA-4602-A091-7A9D88F93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7E9C-8074-4E4C-BF39-81EF8DEA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92EF-A2B3-4C6E-BC35-B8E263DDE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272B-BF47-4395-9456-FA90BA0FC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ثامن</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189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a:t>
            </a:r>
            <a:r>
              <a:rPr b="0" lang="en-US" sz="3200" spc="-1" strike="noStrike">
                <a:solidFill>
                  <a:srgbClr val="000000"/>
                </a:solidFill>
                <a:latin typeface="Times New Roman"/>
              </a:rPr>
              <a:t>32</a:t>
            </a:r>
            <a:r>
              <a:rPr b="0" lang="en-US" sz="3200" spc="-1" strike="noStrike">
                <a:solidFill>
                  <a:srgbClr val="000000"/>
                </a:solidFill>
                <a:latin typeface="Times New Roman"/>
              </a:rPr>
              <a:t>-</a:t>
            </a:r>
            <a:r>
              <a:rPr b="0" lang="en-US" sz="3200" spc="-1" strike="noStrike">
                <a:solidFill>
                  <a:srgbClr val="000000"/>
                </a:solidFill>
                <a:latin typeface="Times New Roman"/>
              </a:rPr>
              <a:t>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304920" y="533160"/>
            <a:ext cx="8610480" cy="60958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حشة، فقد جعلنا لوليه سلطاناً، إنه كان منصوراً، حتى يبلغ أشده.</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لماذا وصف الله سبحانه الزنا بأنه فاحش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 نهى سبحانه عن قربان الزنا فقال: ((</a:t>
            </a:r>
            <a:r>
              <a:rPr b="0" lang="hi-IN" sz="3200" spc="-1" strike="noStrike">
                <a:solidFill>
                  <a:srgbClr val="000000"/>
                </a:solidFill>
                <a:latin typeface="Times New Roman"/>
                <a:cs typeface="Traditional Arabic"/>
              </a:rPr>
              <a:t>وَلَا تَقْرَبُوا الزِّنَى </a:t>
            </a:r>
            <a:r>
              <a:rPr b="0" lang="en-US" sz="3200" spc="-1" strike="noStrike">
                <a:solidFill>
                  <a:srgbClr val="000000"/>
                </a:solidFill>
                <a:latin typeface="Times New Roman"/>
              </a:rPr>
              <a:t>))</a:t>
            </a:r>
            <a:r>
              <a:rPr b="0" lang="en-US" sz="3200" spc="-1" strike="noStrike">
                <a:solidFill>
                  <a:srgbClr val="000000"/>
                </a:solidFill>
                <a:latin typeface="Times New Roman"/>
                <a:ea typeface="Traditional Arabic"/>
              </a:rPr>
              <a:t>  </a:t>
            </a:r>
            <a:r>
              <a:rPr b="0" lang="hi-IN" sz="3200" spc="-1" strike="noStrike">
                <a:solidFill>
                  <a:srgbClr val="000000"/>
                </a:solidFill>
                <a:latin typeface="Times New Roman"/>
              </a:rPr>
              <a:t>لأن النهي عن قربان الزنا أبلغ من النهي عن مجرد فعله، وضح ذلك.</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اكتب كلمة (صح) أو (خطأ) 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ق في القتل للوالي فلا يقتص إلا بإذنه.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فا الوالي لم يسقط القصاص.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مختال الذي يمشي مشية المعجب لا يفيده ذلك قوة وعلوا بل يكون صغيراً عند الله.                                   (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218960"/>
            <a:ext cx="838188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قْرَبُوا الزِّنَى إِنَّهُ كَانَ فَاحِشَةً وَسَاءَ سَبِيلًا (</a:t>
            </a:r>
            <a:r>
              <a:rPr b="0" lang="ar-SA" sz="3200" spc="-1" strike="noStrike">
                <a:solidFill>
                  <a:srgbClr val="000000"/>
                </a:solidFill>
                <a:latin typeface="Times New Roman"/>
                <a:ea typeface="Traditional Arabic"/>
              </a:rPr>
              <a:t>32</a:t>
            </a:r>
            <a:r>
              <a:rPr b="0" lang="ar-SA" sz="3200" spc="-1" strike="noStrike">
                <a:solidFill>
                  <a:srgbClr val="000000"/>
                </a:solidFill>
                <a:latin typeface="Times New Roman"/>
                <a:ea typeface="Traditional Arabic"/>
              </a:rPr>
              <a:t>) وَلَا تَقْتُلُوا النَّفْسَ الَّتِي حَرَّمَ اللَّهُ إِلَّا بِالْحَقِّ 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وَلَا تَقْرَبُوا مَالَ الْيَتِيمِ إِلَّا بِالَّتِي هِيَ أَحْسَنُ حَتَّى يَبْلُغَ أَشُدَّهُ وَأَوْفُوا بِالْعَهْدِ إِنَّ الْعَهْدَ كَانَ مَسْئُولًا (</a:t>
            </a:r>
            <a:r>
              <a:rPr b="0" lang="ar-SA" sz="3200" spc="-1" strike="noStrike">
                <a:solidFill>
                  <a:srgbClr val="000000"/>
                </a:solidFill>
                <a:latin typeface="Times New Roman"/>
                <a:ea typeface="Traditional Arabic"/>
              </a:rPr>
              <a:t>34</a:t>
            </a:r>
            <a:r>
              <a:rPr b="0" lang="ar-SA" sz="3200" spc="-1" strike="noStrike">
                <a:solidFill>
                  <a:srgbClr val="000000"/>
                </a:solidFill>
                <a:latin typeface="Times New Roman"/>
                <a:ea typeface="Traditional Arabic"/>
              </a:rPr>
              <a:t>) وَأَوْفُوا الْكَيْلَ إِذَا كِلْتُمْ وَزِنُوا بِالْقِسْطَاسِ الْمُسْتَقِيمِ ذَلِكَ خَيْرٌ وَأَحْسَنُ تَأْوِيلًا (</a:t>
            </a:r>
            <a:r>
              <a:rPr b="0" lang="ar-SA" sz="3200" spc="-1" strike="noStrike">
                <a:solidFill>
                  <a:srgbClr val="000000"/>
                </a:solidFill>
                <a:latin typeface="Times New Roman"/>
                <a:ea typeface="Traditional Arabic"/>
              </a:rPr>
              <a:t>35</a:t>
            </a:r>
            <a:r>
              <a:rPr b="0" lang="ar-SA" sz="3200" spc="-1" strike="noStrike">
                <a:solidFill>
                  <a:srgbClr val="000000"/>
                </a:solidFill>
                <a:latin typeface="Times New Roman"/>
                <a:ea typeface="Traditional Arabic"/>
              </a:rPr>
              <a:t>) وَلَا تَقْفُ مَا لَيْسَ لَكَ بِهِ عِلْمٌ إِنَّ السَّمْعَ وَالْبَصَرَ وَالْفُؤَادَ كُلُّ أُولَئِكَ كَانَ عَنْهُ مَسْئُولًا (</a:t>
            </a:r>
            <a:r>
              <a:rPr b="0" lang="ar-SA" sz="3200" spc="-1" strike="noStrike">
                <a:solidFill>
                  <a:srgbClr val="000000"/>
                </a:solidFill>
                <a:latin typeface="Times New Roman"/>
                <a:ea typeface="Traditional Arabic"/>
              </a:rPr>
              <a:t>36</a:t>
            </a:r>
            <a:r>
              <a:rPr b="0" lang="ar-SA" sz="3200" spc="-1" strike="noStrike">
                <a:solidFill>
                  <a:srgbClr val="000000"/>
                </a:solidFill>
                <a:latin typeface="Times New Roman"/>
                <a:ea typeface="Traditional Arabic"/>
              </a:rPr>
              <a:t>) وَلَا تَمْشِ فِي الْأَرْضِ مَرَحًا إِنَّكَ لَنْ تَخْرِقَ الْأَرْضَ وَلَنْ تَبْلُغَ الْجِبَالَ طُولًا (</a:t>
            </a:r>
            <a:r>
              <a:rPr b="0" lang="ar-SA" sz="3200" spc="-1" strike="noStrike">
                <a:solidFill>
                  <a:srgbClr val="000000"/>
                </a:solidFill>
                <a:latin typeface="Times New Roman"/>
                <a:ea typeface="Traditional Arabic"/>
              </a:rPr>
              <a:t>37</a:t>
            </a:r>
            <a:r>
              <a:rPr b="0" lang="ar-SA" sz="3200" spc="-1" strike="noStrike">
                <a:solidFill>
                  <a:srgbClr val="000000"/>
                </a:solidFill>
                <a:latin typeface="Times New Roman"/>
                <a:ea typeface="Traditional Arabic"/>
              </a:rPr>
              <a:t>) كُلُّ ذَلِكَ كَانَ سَيِّئُهُ عِنْدَ رَبِّكَ مَكْرُوهًا (</a:t>
            </a:r>
            <a:r>
              <a:rPr b="0" lang="ar-SA" sz="3200" spc="-1" strike="noStrike">
                <a:solidFill>
                  <a:srgbClr val="000000"/>
                </a:solidFill>
                <a:latin typeface="Times New Roman"/>
                <a:ea typeface="Traditional Arabic"/>
              </a:rPr>
              <a:t>38</a:t>
            </a:r>
            <a:r>
              <a:rPr b="0" lang="ar-SA" sz="3200" spc="-1" strike="noStrike">
                <a:solidFill>
                  <a:srgbClr val="000000"/>
                </a:solidFill>
                <a:latin typeface="Times New Roman"/>
                <a:ea typeface="Traditional Arabic"/>
              </a:rPr>
              <a:t>) ذَلِكَ مِمَّا أَوْحَى إِلَيْكَ رَبُّكَ مِنَ الْحِكْمَةِ وَلَا تَجْعَلْ مَعَ اللَّهِ إِلَهًا آَخَرَ فَتُلْقَى فِي جَهَنَّمَ مَلُومًا مَدْحُورًا (</a:t>
            </a:r>
            <a:r>
              <a:rPr b="0" lang="ar-SA" sz="3200" spc="-1" strike="noStrike">
                <a:solidFill>
                  <a:srgbClr val="000000"/>
                </a:solidFill>
                <a:latin typeface="Times New Roman"/>
                <a:ea typeface="Traditional Arabic"/>
              </a:rPr>
              <a:t>39</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914400"/>
          <a:ext cx="8610480" cy="583560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7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ئس الطريق والمس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ذي يوجب قتل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غير سبب يوجب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ة على القاتل فإنه بالخيار فيه إن شاء قتله قَوَداً، وإن شاء أخذ الدية، وإن شاء عفا ع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الوالي في قتل القاتل بأن يمثل به أو يقتل معه غيره من أقار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أن الوالي مُعَانٌ على القصاص من القات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فاحش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ساء سب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ن قُتِل مظلو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د جعلنا لوليِّه سلط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في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منص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477120"/>
        </p:xfrm>
        <a:graphic>
          <a:graphicData uri="http://schemas.openxmlformats.org/drawingml/2006/table">
            <a:tbl>
              <a:tblPr/>
              <a:tblGrid>
                <a:gridCol w="4381560"/>
                <a:gridCol w="4381560"/>
              </a:tblGrid>
              <a:tr h="677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ا فيه صلاح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وغه وعقله و ر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إتيان بما أمر الله به والانتهاء عما نهى عنه،وقيل:أراد بالعهد ما يلتزمه الإنسان على نفس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ؤولاً عن الوفاء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تموه ولا تبخسوا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زنوا بالعد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تبع ما ليس لك به علم بل تثبت في كل ما تقوله و تفع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يسأل العبد عنها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طَراً وكبْراً وخيل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تي هي أحس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تى يبلغ أ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عهد كان مسؤ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الكيل إذا كل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زنوا بالقسط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قف ما ليس لك به عل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أولئك كان عنه مسئ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مش في الأرض مَرَحً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839440" cy="6400800"/>
        </p:xfrm>
        <a:graphic>
          <a:graphicData uri="http://schemas.openxmlformats.org/drawingml/2006/table">
            <a:tbl>
              <a:tblPr/>
              <a:tblGrid>
                <a:gridCol w="4419720"/>
                <a:gridCol w="4419720"/>
              </a:tblGrid>
              <a:tr h="651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تقدر أن تطاول الجبال وتساويها بكبرك، والمعنى:أن الإنسان لا ينال بكبره وبطره شيئاً كمن يريد خرق الأرض ومطاولة الجبال لا يحصل على ش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ذكور الذي نهى الله عنه فيما تقدم من الآي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بحُه مكروه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ذي بيناه ووضحناه من هذه الأحكام الجليل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ن الأمور المحكمة والآداب الجامعة لكل خي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طروداً مبعداً من كل خي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ن تبلغ الجبال ط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ن سيئه عند ربك مكر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حك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دحور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7720"/>
            <a:ext cx="8763120" cy="579132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هي عن قربان الزنا أبلغ من النهي عن مجرد فعله؛ لأن ذلك يشمل النهي عن جميع مقدماته ودواعيه فإن من حام حول الحمى يوشك أن يقع فيه.</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صف سبحانه الزنا بأنه فاحشة وهو ما يستفحش في الشرع والعقل والفطر وذلك لتضمنه التجرؤ على الحرمة في حق الله تعالى وفي حق المرأة، وحق أهلها، أو زوجها، وإفساد الفراش، واختلاط الأنساب، وغير ذلك من المفاسد.</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نهى سبحانه عن قتل النفس التي حرم الله إلا بالحق وهو: الكفر بعد الإيمان، والزنا بعد الإحصان، وقتل مؤمن معصوم عمداً. فعن ابن مسعود –رضي الله عنه-أنه قال:قال رسول الله –صلى اله عليه وسلم : (( </a:t>
            </a:r>
            <a:r>
              <a:rPr b="0" lang="ar-JO" sz="2800" spc="-1" strike="noStrike">
                <a:solidFill>
                  <a:srgbClr val="000000"/>
                </a:solidFill>
                <a:latin typeface="Times New Roman"/>
              </a:rPr>
              <a:t>لا يحل دم امرئ مسلم يشهد ألا إله إلا الله، وأني رسول الله إلا بإحدى ثلاث:النفس بالنفس، والثيب الزاني، والمفارق لدينه التارك للجماع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طف اله سبحانه باليتيم الذي فقد والده وهو صغير غير عارف بمصلحه نفسه ولا قائم بها، أن أمر أولياءه برعايته وحفظ ماله وإصلاحه،</a:t>
            </a:r>
            <a:r>
              <a:rPr b="0" lang="ar-JO" sz="3200" spc="-1" strike="noStrike">
                <a:solidFill>
                  <a:srgbClr val="000000"/>
                </a:solidFill>
                <a:latin typeface="Times New Roman"/>
              </a:rPr>
              <a:t>وألا يقربوا ماله إلا بالتي هي أحسن من التجارة فيه، وعدم تعريضه للأخطار، والحرص على تنميه حتى يبلغ اليتيم أشده فتزول عنه الولاية ويصير ولياً لنفسه، فيدفع إلية ماله.</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هذه الآية: ((</a:t>
            </a:r>
            <a:r>
              <a:rPr b="0" lang="ar-SA" sz="3200" spc="-1" strike="noStrike">
                <a:solidFill>
                  <a:srgbClr val="000000"/>
                </a:solidFill>
                <a:latin typeface="Times New Roman"/>
                <a:cs typeface="Traditional Arabic"/>
              </a:rPr>
              <a:t>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 دليل على أن الحق في القتل للولي فلا يقتص إلا بإذنه وإن عفا سقط القصاص.</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مر بالوفاء بالعهد وهو: كل ما أمر الله به، ونهى عنه،  و يدخل في ذلك ما بين العباد وربه  بعضهم مع بعض؛ لأن الجميع مسؤولون عن الوفاء بالعهد فمن وفى فله الثواب ومن لم يوف فعليه الإثم والعقا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مر بالعدل وإيفاء المكاييل والموازين بالقسط من غير بخس ولا نقص، النهي عن الفحش والجوار والحيف؛ لأن جميع الناس محتاجون إلى المعاوضات والبيع و الشراء ومن ثم شدد الشارع في المنع من التطفيف والنقصان سعياً في إبقاء الأموال لأربابها.</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قولة تعالى: ((</a:t>
            </a:r>
            <a:r>
              <a:rPr b="0" lang="hi-IN" sz="2800" spc="-1" strike="noStrike">
                <a:solidFill>
                  <a:srgbClr val="000000"/>
                </a:solidFill>
                <a:latin typeface="Times New Roman"/>
                <a:cs typeface="Traditional Arabic"/>
              </a:rPr>
              <a:t>وَلَا تَقْفُ مَا لَيْسَ لَكَ بِهِ عِلْمٌ إِنَّ السَّمْعَ وَالْبَصَرَ وَالْفُؤَادَ كُلُّ أُولَئِكَ كَانَ عَنْهُ مَسْئُولًا (</a:t>
            </a:r>
            <a:r>
              <a:rPr b="0" lang="en-US" sz="2800" spc="-1" strike="noStrike">
                <a:solidFill>
                  <a:srgbClr val="000000"/>
                </a:solidFill>
                <a:latin typeface="Times New Roman"/>
                <a:ea typeface="Traditional Arabic"/>
              </a:rPr>
              <a:t>36</a:t>
            </a:r>
            <a:r>
              <a:rPr b="0" lang="en-US" sz="2800" spc="-1" strike="noStrike">
                <a:solidFill>
                  <a:srgbClr val="000000"/>
                </a:solidFill>
                <a:latin typeface="Times New Roman"/>
                <a:ea typeface="Traditional Arabic"/>
              </a:rPr>
              <a:t>) ))</a:t>
            </a:r>
            <a:r>
              <a:rPr b="0" lang="en-US" sz="2800" spc="-1" strike="noStrike">
                <a:solidFill>
                  <a:srgbClr val="000000"/>
                </a:solidFill>
                <a:latin typeface="Times New Roman"/>
              </a:rPr>
              <a:t> نهى عن قول الزور والقذف وما أشبه ذلك من الأقوال الرديئة، فالواجب على الإنسان أن يثبت في كل ما يقوله ويفعله، ولا يتبع ما ليس له به علم فإن الله سبحانه سائل الإنسان عما حواه سمعه وبصره وفؤاده.</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ختال الذي يمشي مشية المعجب والمتكبر لا يفيده ذلا قوه وعلوا، بل يكون حقيراً عند الله ومحتقراً عند الخلق مبغوضاً ممقوتاً، قد اكتسب شر الأخلاق واكتسى بأرذلها من غير إدراك لبعض ما يروم، وفي الآية الكريمة: ((</a:t>
            </a:r>
            <a:r>
              <a:rPr b="0" lang="hi-IN" sz="2800" spc="-1" strike="noStrike">
                <a:solidFill>
                  <a:srgbClr val="000000"/>
                </a:solidFill>
                <a:latin typeface="Times New Roman"/>
                <a:cs typeface="Traditional Arabic"/>
              </a:rPr>
              <a:t>وَلَا تَمْشِ فِي الْأَرْضِ مَرَحًا إِنَّكَ لَنْ تَخْرِقَ الْأَرْضَ وَلَنْ تَبْلُغَ الْجِبَالَ طُولًا (</a:t>
            </a:r>
            <a:r>
              <a:rPr b="0" lang="en-US" sz="2800" spc="-1" strike="noStrike">
                <a:solidFill>
                  <a:srgbClr val="000000"/>
                </a:solidFill>
                <a:latin typeface="Times New Roman"/>
                <a:ea typeface="Traditional Arabic"/>
              </a:rPr>
              <a:t>37</a:t>
            </a:r>
            <a:r>
              <a:rPr b="0" lang="en-US" sz="2800" spc="-1" strike="noStrike">
                <a:solidFill>
                  <a:srgbClr val="000000"/>
                </a:solidFill>
                <a:latin typeface="Times New Roman"/>
                <a:ea typeface="Traditional Arabic"/>
              </a:rPr>
              <a:t>) )) </a:t>
            </a:r>
            <a:r>
              <a:rPr b="0" lang="hi-IN" sz="2800" spc="-1" strike="noStrike">
                <a:solidFill>
                  <a:srgbClr val="000000"/>
                </a:solidFill>
                <a:latin typeface="Times New Roman"/>
              </a:rPr>
              <a:t>نهى عن الخيلاء وأمر بالتواض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كل من نهى الله عنه فيما تقدم في هذه الآيات من قوله: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والنهي عن عقوق الوالدين وما  عطف على ذلك سيئ مكروه عند الله ومبغض عند العقلاء من الناس.</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داب والأحكام التي تضمنها هذه الآيات المتقدمة من الحكمة العالية التي هي الأمر بمحاسن الأعمال ومكارم الأخلاق، ومن يؤت الحكمة فقد أوتي خيراً كثيراً.</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ه تعالى: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كرر سبحانه هذا مع ما سلف للتنبيه على أن التوحيد هو رأس الدين، وأساس الحكم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08:51:15Z</dcterms:created>
  <dc:creator>cultural-office</dc:creator>
  <dc:description/>
  <dc:language>en-US</dc:language>
  <cp:lastModifiedBy>cultural-office</cp:lastModifiedBy>
  <dcterms:modified xsi:type="dcterms:W3CDTF">2008-01-19T12:08:34Z</dcterms:modified>
  <cp:revision>7</cp:revision>
  <dc:subject/>
  <dc:title>الدرس الثامن</dc:title>
</cp:coreProperties>
</file>